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35709"/>
        <c:axId val="90507548"/>
      </c:barChart>
      <c:catAx>
        <c:axId val="30235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07548"/>
        <c:crosses val="autoZero"/>
        <c:auto val="1"/>
        <c:lblAlgn val="ctr"/>
        <c:lblOffset val="100"/>
        <c:noMultiLvlLbl val="0"/>
      </c:catAx>
      <c:valAx>
        <c:axId val="90507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35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3E4-171A-4E09-BB9C-69BD73BA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918-7284-41DE-B1A8-E98D6EB0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782-4F78-4A6C-A391-3F64DE13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EC9-17C6-441D-870E-F42B3F6A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BDF-8C3A-4360-A32F-8F6A2240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5A0-B0DE-4378-ABBC-F1AB324C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C60-30C4-4DDE-B9F8-4F43E194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FF4-2913-4D75-BA17-2A2646FF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B7D-6403-4826-8830-A6F2B5BC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C24-9BAB-4AFE-8119-506DCD7C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6C6-4B65-4DBE-A91D-B19076E8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559-08BE-48C3-810D-2A23739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2EC2F-F932-46D2-B2D7-441060A2F2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