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76830"/>
        <c:axId val="46800115"/>
      </c:barChart>
      <c:catAx>
        <c:axId val="41376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00115"/>
        <c:crosses val="autoZero"/>
        <c:auto val="1"/>
        <c:lblAlgn val="ctr"/>
        <c:lblOffset val="100"/>
        <c:noMultiLvlLbl val="0"/>
      </c:catAx>
      <c:valAx>
        <c:axId val="46800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76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8E8-4CF4-466F-93E0-97395E1F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B3F-961E-4647-9844-F27DC4CF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42B-C3CA-4BBD-B8DA-AA692D58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FED-50E0-4E1A-8C79-F4550542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948-434B-4679-AA48-601C7051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9A0-49A5-4594-83DD-62C62E94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F57-3769-4019-A63B-208A2EF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814-8F82-4F18-8FA4-C5B3677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BDB-351B-4C5A-A20B-06C5EAB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61F-E7A0-48C1-90B9-74E9AC62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94A-8848-4FD3-B65B-30CBBEE1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F09-4250-4F1C-851A-2687F8D9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64BA1-5B37-4E79-A57D-AEC93906DE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