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06279"/>
        <c:axId val="72920311"/>
      </c:barChart>
      <c:catAx>
        <c:axId val="36106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20311"/>
        <c:crosses val="autoZero"/>
        <c:auto val="1"/>
        <c:lblAlgn val="ctr"/>
        <c:lblOffset val="100"/>
        <c:noMultiLvlLbl val="0"/>
      </c:catAx>
      <c:valAx>
        <c:axId val="72920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06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359-4BB5-4174-AB98-23C5D5AF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39C-90D3-440E-9126-A06CF8D1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189-0912-4C1F-BB02-FEE91640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E2A-0022-458C-8A02-B63D339E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6F4-F636-4CD0-BDA3-BBCDB9A6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2C0-0E9E-4221-940F-AF429146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43E-AFDE-4CB2-8810-D3B31913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A8B-6AFF-4585-A566-A4171C3B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65D-A538-435E-8879-1A98D2A0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F65-F53B-4123-8F82-68098656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5C8-B746-4D6C-89AD-F807C286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437-412A-4C8D-AF26-B57612CE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46262-43E4-4D13-AF96-BDB726A609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